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1954-6F1E-46F4-8CE1-18B34A70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194-6D52-4C6D-8237-93EB3796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A9B-E857-4E89-9B3C-5AC74AEA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F815-7118-4685-9360-D667C516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B534-7990-4FCE-B13E-D56C2F48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E591-02C2-4214-8B6F-B6F5974D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16E9-EF2F-4B70-950C-630FEBF6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79FF-65B1-4248-934A-12AE905D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3D1B-543F-4E97-8451-A3838DFD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3097-77CE-4FC7-AE9E-EDF73BE9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93EF-155C-4DC5-9ED1-82B8E0D0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817-B497-4D34-8434-409EFC35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D939-AC4D-4AE3-B43A-5ED108E6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DB47-DA68-42CE-AD7E-9EAAF2B7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B355-B8E9-44E0-8250-EE9397CB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899F-F74A-471B-B0B7-B091570E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E16C-BD84-4245-A06D-60F94100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1A11-163E-4D76-8394-3B35425A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1DC-DD12-4718-9D24-E9BC9B38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BA4-A67A-4017-A6AB-8B0DFDEF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E7E1-56FC-41A6-80DE-EBECAF82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3717-862F-404B-8845-D234C709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C4CA-F7CF-4221-B0A8-B91953D5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8F5-EBA4-4925-858F-8352F08E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404A-94D8-45AE-8FC5-A80C7C511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8695-DFBB-4E53-A10F-1A6203DA73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едагогические подходы к компьютерным играм для детей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64000" y="5013360"/>
            <a:ext cx="3456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 проект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ровских Розалия Владими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95640" y="3429000"/>
            <a:ext cx="4176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роблемные  вопросы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акие существуют педагогические подходы к компьютерным играм для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ак можно организовать педагогические подходы к компьютерным играм для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Является ли компьютер средством воспитания, развития, обучения дете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333360"/>
            <a:ext cx="15476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Участники проекта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дагоги ДОУ</a:t>
            </a:r>
            <a:br>
              <a:rPr sz="5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4360" y="2133360"/>
            <a:ext cx="79200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Информационные ресурс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итературные источ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нтернет-ресурс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156360" y="10526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00000" y="4508640"/>
            <a:ext cx="23036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Цель-</a:t>
            </a: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дать педагогам представления по               использованию педагогических подходов к компьютерным играм для детей в практике работы</a:t>
            </a:r>
            <a:br>
              <a:rPr sz="32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Задачи:</a:t>
            </a: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3141720"/>
            <a:ext cx="87138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обрать источники информации по данной те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явить значение компьютерных игр для детей в сфере их развития, обучения и образ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явить педагогические подходы к компьютерным играм для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Темы исследования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ногообразие компьютерных игр для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ведение в мир компьютерных игр или как развивать, обучать и воспитывать детей с помощью компьютерных иг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стерство педагога в использовании педагогических подходов к компьютерным играм для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73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едставление результатов исследовани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2060640"/>
            <a:ext cx="854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убликации и презентации педагог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идактические и информационные материалы педагогов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635280" y="4941720"/>
            <a:ext cx="17766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лан проекта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11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нятие компьютерных игр для детей. Жанр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11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труктура компьютерных иг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11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ипы компьютерных иг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11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дагогические подходы к играм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708360" y="5445000"/>
            <a:ext cx="2087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>
            <a:biLevel thresh="50000"/>
            <a:lum bright="24000"/>
          </a:blip>
          <a:stretch/>
        </p:blipFill>
        <p:spPr>
          <a:xfrm>
            <a:off x="32400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17:19:26Z</dcterms:created>
  <dc:creator>Customer</dc:creator>
  <dc:description/>
  <dc:language>en-US</dc:language>
  <cp:lastModifiedBy>Customer</cp:lastModifiedBy>
  <dcterms:modified xsi:type="dcterms:W3CDTF">2009-05-29T11:46:37Z</dcterms:modified>
  <cp:revision>7</cp:revision>
  <dc:subject/>
  <dc:title>Слайд 1</dc:title>
</cp:coreProperties>
</file>